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5FF-828D-417F-B7E4-5B9146EC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78B-7F2C-4542-A2E6-CAFEE0EA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18E-517E-4A3F-9B9C-541CD7D9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608-1E5F-443F-B6AD-F9B25742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2DF-1F43-4A3F-984B-B520BDF9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68E-F88E-484F-A054-CC858FBD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6CD-B314-46B8-B5C2-AE3ADD9B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BB5-A7E7-49AD-A279-9EC5556D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1F0-DD3D-4905-84B4-DDE05BA9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FA0-C1FC-4C5D-9817-6410DC9C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56B-37B2-4223-A905-259A8D9C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E36-6802-4280-BA74-7B005EF7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5883-6377-44FA-9F9A-9A50F1139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8305560" cy="49528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Revision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Verb / Weak Sent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n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er Verb / Stronger Sent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s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#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ylor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miling at her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I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oing to the party on Frid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to ANY paper that has bee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turn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ight any “weak” verbs o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just 1 of those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Switch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“weak” ver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“strong”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Definitio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-seeing” the pap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aking steps to improve your pap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ain Goal of Revis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o mov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your PAP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o a be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LACE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hen you write, you are a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TIS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your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raft, ask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TY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ing through on this pi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 Sentence Activity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dnesday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rs. Geiman walked in the ro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sat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rsday: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rs. Geiman walked lazily into the room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plopped down in her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ida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alented Mrs. Geiman breezed int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m 123 and plopped down in her c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esday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re are 4 MAJOR ways you can TRANSFORM your es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omic Sans MS"/>
              </a:rPr>
              <a:t>STA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 = Substitu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 = Take things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A = Ad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 - Rearran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UBSTITU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used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ak verbs with strong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ak Adjectives with strong ad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mon nouns with Proper 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ad”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hat are Weak Ver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31:28Z</dcterms:created>
  <dc:creator>BPS</dc:creator>
  <dc:description/>
  <dc:language>en-US</dc:language>
  <cp:lastModifiedBy>BPS</cp:lastModifiedBy>
  <dcterms:modified xsi:type="dcterms:W3CDTF">2009-10-13T13:38:41Z</dcterms:modified>
  <cp:revision>10</cp:revision>
  <dc:subject/>
  <dc:title>Revision </dc:title>
</cp:coreProperties>
</file>